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6AB-E06A-49CD-B39A-21F44545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9DA-3CC0-49FB-995B-A59B816A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D96-186C-467A-B140-C319A895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D1E-3F50-410C-8563-32902E41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F7B7-4C0B-4E7B-804F-9DAE99B5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573D-42DF-4BCF-8E35-FE4ADAFA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9333-A94A-473F-96AA-87D92E13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26CB-F569-4BB3-8DFC-EF480222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8D77-4ADA-4654-B7B4-11F64464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162C-9C99-4EA9-B368-95628816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4F05-A2DC-4F4A-AD88-113CF273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B1C-4494-44DD-B72E-49B8C8D0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4B29-3D6C-4649-9F8F-2C44BD7A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7287-EB0C-4A65-992F-73F5D42F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2DC9-D0EB-45EA-BCD9-AB551975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F07E-3D24-429F-B2D7-52CD5D28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911C-0363-4389-ACAF-5A25C696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24A-DFA0-4C86-9B43-D24FB4BA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71D-A859-459E-8143-C2D239DA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646-A399-47C0-A907-A3D94DCF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086-93F7-423B-95A0-4569380B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FAC-3E5E-42B8-A966-4081307C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704-CC35-4374-AB81-E1EFA6D9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7B3-BEE1-4AE6-9204-956AFD30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B7C4-E475-4A65-BD1E-366766A1A4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8E23-636D-433E-9E72-D50A97ADB4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-S54bbX6e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ing the Classroom Environment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390840"/>
            <a:ext cx="6400800" cy="1524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elpful Hi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le’s” is a jewelry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cky’s is a tuxedo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Lehman” is a car deal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the che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hecks lab sample"/>
          <p:cNvPicPr/>
          <p:nvPr/>
        </p:nvPicPr>
        <p:blipFill>
          <a:blip r:embed="rId1"/>
          <a:srcRect l="8331" t="8067" r="20696" b="72611"/>
          <a:stretch/>
        </p:blipFill>
        <p:spPr>
          <a:xfrm>
            <a:off x="2743200" y="4038480"/>
            <a:ext cx="4952880" cy="174312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2209680" y="41148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 flipH="1">
            <a:off x="6857640" y="35812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8288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V="1">
            <a:off x="2438280" y="563868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 flipH="1" flipV="1">
            <a:off x="7009920" y="51051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23880" y="3809880"/>
            <a:ext cx="83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685800" y="4648320"/>
            <a:ext cx="1066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828800" y="649116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792468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678168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y Important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environment determines whether or not learning occur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e learning environments involve student engagements as well as struc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stablishing the Classroom Environ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intentional in your set up of the physical layout of your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ut and structure transition times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lear and well established classroom management philosophy and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echnolog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ment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/collaboration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Teachers with effective classroom management skills: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ly arrange the classroom in a way that minimizes distractions and facilitates teacher-student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 climate in which students feel they belong and are intrinsically motivated to lea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reasonable limits for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 activities that encourage on-task behavi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ally monitor what students are d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ify instructional strategies when necess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c0039"/>
                </a:solidFill>
                <a:latin typeface="Times New Roman"/>
              </a:rPr>
              <a:t>Jeanne Ellis Ormrod</a:t>
            </a:r>
            <a:br>
              <a:rPr sz="1000"/>
            </a:br>
            <a:r>
              <a:rPr b="0" i="1" lang="en-US" sz="1000" spc="-1" strike="noStrike">
                <a:solidFill>
                  <a:srgbClr val="8c0039"/>
                </a:solidFill>
                <a:latin typeface="Times New Roman"/>
              </a:rPr>
              <a:t>Educational Psychology: Developing Learners, six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ips for Classroom Manage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a plan ahea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clear expectations –  NO HIDDEN RUL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you are the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care of your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 students like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 at the ABCs of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97000" y="16002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to know your k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well plan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 men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consis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guidelines you believe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a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why you are there in the first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ARNING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classroom management does not always mean good teac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http://www.youtube.com/watch?v=C-S54bbX6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hecks Lab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students to the nature of science and some of its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given a set of checks written by their long lost grandfather. They recreate his life’s story based on the che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ocedu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3 checks from your pa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se checks, write a hypothesis as to what Great Grandpa John was doing in his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3 more checks from your pa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se checks, revise your initial hypo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he process until you are out of che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n overall life story for Great Grandpa Joh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9:08:04Z</dcterms:created>
  <dc:creator>elpalme</dc:creator>
  <dc:description/>
  <dc:language>en-US</dc:language>
  <cp:lastModifiedBy>elpalme</cp:lastModifiedBy>
  <dcterms:modified xsi:type="dcterms:W3CDTF">2011-01-07T19:18:39Z</dcterms:modified>
  <cp:revision>8</cp:revision>
  <dc:subject/>
  <dc:title>Setting the Classroom Environment</dc:title>
</cp:coreProperties>
</file>